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DFA-8A58-4B9A-A98E-47125867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E51-A072-4A76-BB45-83ADDC8C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0C8-D177-460F-AEDF-CD7D8B26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120-91F8-4515-BF7B-6131B488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304-0E4F-4276-BBDA-CECB9F2A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850-AEE2-4E29-BB72-603EE70E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2F0-143D-43B2-8648-A8E3059C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95D-0BE9-4DB3-A5AD-55C7637B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29E-5EA4-4EC3-ADEB-08C56A77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09F-5997-46E7-8960-CD8783C2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E0A-191A-408C-89A3-403E7C3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484-B4C8-4B8C-84DC-BFD40D69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6323-047A-4F32-8690-80FD2914B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16720" y="2492280"/>
          <a:ext cx="223200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492280"/>
                    <a:ext cx="223200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6284880" cy="630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6659640" y="4508640"/>
          <a:ext cx="2016000" cy="18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59640" y="4508640"/>
                    <a:ext cx="20160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659640" y="115920"/>
          <a:ext cx="1936800" cy="230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59640" y="115920"/>
                    <a:ext cx="19368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408720" cy="629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6588000" y="2060640"/>
          <a:ext cx="2238480" cy="28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2060640"/>
                    <a:ext cx="22384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720" y="404640"/>
          <a:ext cx="2103480" cy="22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404640"/>
                    <a:ext cx="2103480" cy="22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6372360" cy="627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6804000" y="4762440"/>
          <a:ext cx="2160720" cy="2081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4000" y="4762440"/>
                    <a:ext cx="216072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732720" y="2708280"/>
          <a:ext cx="2087280" cy="207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32720" y="2708280"/>
                    <a:ext cx="208728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300720" cy="625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6588000" y="1700280"/>
          <a:ext cx="2303640" cy="27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1700280"/>
                    <a:ext cx="230364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588000" y="3284640"/>
          <a:ext cx="236232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3284640"/>
                    <a:ext cx="236232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588000" y="692280"/>
          <a:ext cx="2303640" cy="19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92280"/>
                    <a:ext cx="23036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08000" y="260280"/>
            <a:ext cx="6443640" cy="64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372360" cy="631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093080" y="1989000"/>
          <a:ext cx="1396800" cy="195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1989000"/>
                    <a:ext cx="139680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8:34:23Z</dcterms:created>
  <dc:creator>Dr. Szilassi Lajos</dc:creator>
  <dc:description/>
  <dc:language>en-US</dc:language>
  <cp:lastModifiedBy>Dr. Szilassi Lajos</cp:lastModifiedBy>
  <dcterms:modified xsi:type="dcterms:W3CDTF">2010-03-17T06:05:32Z</dcterms:modified>
  <cp:revision>12</cp:revision>
  <dc:subject/>
  <dc:title>1. dia</dc:title>
</cp:coreProperties>
</file>