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E58-20AD-48C0-AD5E-B186F280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EAD-BC6F-4B19-B6F0-2D44882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DC6-1F46-44F7-8D17-F6446A17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107-A340-423D-8112-76406ACC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D1D-E02C-4607-9768-2A25863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E78-DE4B-4748-888A-47D07574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01B-4676-4B33-BA32-80C65539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F05-DB9B-473D-ABF4-1446AEE2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F9E-1D40-4BE4-8F3C-08BA6AF1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2E0-6AAD-4A3E-B46B-A6A020F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3F7-9643-4843-9F73-8FB59B3E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D73-D30E-4B8B-9456-4D26A68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F5A-38E2-4F64-B6C7-463DC7006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3640" y="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3  faces, version A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6029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3640" y="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3  faces, version B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2360" y="189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4  faces, version A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3640" y="189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4  faces, version B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8368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2360" y="26028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A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8512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5440" y="260280"/>
            <a:ext cx="69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B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247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5080" y="189000"/>
            <a:ext cx="71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C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4000" y="26028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D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313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39:37Z</dcterms:created>
  <dc:creator>Dr. Szilassi Lajos</dc:creator>
  <dc:description/>
  <dc:language>en-US</dc:language>
  <cp:lastModifiedBy>Dr. Szilassi Lajos</cp:lastModifiedBy>
  <dcterms:modified xsi:type="dcterms:W3CDTF">2010-03-17T06:34:21Z</dcterms:modified>
  <cp:revision>15</cp:revision>
  <dc:subject/>
  <dc:title>1. dia</dc:title>
</cp:coreProperties>
</file>