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CE0-79F9-4531-B55F-865E155B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F29-4984-45ED-9519-6D832B03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EAA-7328-4511-8D17-F6F6D1E6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CB7-7582-4559-A108-4BC993D1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AC2-05CD-441B-BC6F-06019B0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B82-B270-4FB2-AED6-5200B2B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924-C626-4EFC-8849-DA5999A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EE4-1D46-438F-951D-02CCC08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6DB-45DA-4137-BEC7-6F20137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AD5-2D87-481C-AA66-160AEC7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FFC-B060-43BD-AA1E-AAAA565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A5D-2E27-4A45-8DD6-6A9DF79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0340-87A8-4EBA-9A64-3A0E177E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7600" y="0"/>
            <a:ext cx="74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7 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5440" y="0"/>
            <a:ext cx="73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D         Typ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3360" y="527040"/>
            <a:ext cx="8477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0"/>
            <a:ext cx="74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8  faces, version A  (unique)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77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3640" y="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9  faces, version A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3640" y="0"/>
            <a:ext cx="74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9  faces, version B              Typ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7960" y="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0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7960" y="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1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4360" y="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A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720" y="0"/>
            <a:ext cx="70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B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5440" y="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C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39:37Z</dcterms:created>
  <dc:creator>Dr. Szilassi Lajos</dc:creator>
  <dc:description/>
  <dc:language>en-US</dc:language>
  <cp:lastModifiedBy>Dr. Szilassi Lajos</cp:lastModifiedBy>
  <dcterms:modified xsi:type="dcterms:W3CDTF">2010-03-17T06:41:43Z</dcterms:modified>
  <cp:revision>10</cp:revision>
  <dc:subject/>
  <dc:title>1. dia</dc:title>
</cp:coreProperties>
</file>