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3A6-B9BE-4497-B0C3-E6554A84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9C9-3717-4200-91A6-791A9B4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A21-AD90-45AD-BA0A-92C662B4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66E-1AC6-4595-9526-5B193B7D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F13-F4E0-4E11-9B56-567A5380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94A-1AAE-4F6D-A897-321B5244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480-5E10-4F2D-99EE-61153650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422-CF59-483D-882B-97B1BB7D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57B-6B03-43FC-9DF9-ACD52571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2EC-2F28-4418-B36B-35E4296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D06-9765-4218-A200-AC21A423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C40-524F-4AEC-A12A-FED5C3E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F9B6-A0D1-4F5A-93F6-9458275A7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333360"/>
          <a:ext cx="15127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15127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1728720" cy="8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3552840"/>
            <a:ext cx="1800360" cy="156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611280" y="5229360"/>
          <a:ext cx="1511280" cy="13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229360"/>
                    <a:ext cx="1511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987640" y="3573360"/>
          <a:ext cx="5329440" cy="317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3573360"/>
                    <a:ext cx="532944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59280" y="203040"/>
          <a:ext cx="5262480" cy="314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203040"/>
                    <a:ext cx="52624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3:12:50Z</dcterms:created>
  <dc:creator>Dr. Szilassi Lajos</dc:creator>
  <dc:description/>
  <dc:language>en-US</dc:language>
  <cp:lastModifiedBy>Dr. Szilassi Lajos</cp:lastModifiedBy>
  <dcterms:modified xsi:type="dcterms:W3CDTF">2010-03-31T12:45:27Z</dcterms:modified>
  <cp:revision>6</cp:revision>
  <dc:subject/>
  <dc:title>1. dia</dc:title>
</cp:coreProperties>
</file>